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BFD-F214-49E0-9403-98FF5557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330-78EA-4B25-8911-010AB9E6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FBE-0D5C-40CF-BDAA-6DD12CED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F48-28B0-45A9-BFDB-5FEC509C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1BC5-8FF3-4068-8F4B-C9D8D607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F8E1-293D-4DC4-B1B4-4268AD23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7532-995B-4940-B1C7-7406E3C6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D4C3-F22E-4B70-B38F-59ADB90D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7D64-B727-4D20-A91E-8E1F9381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3296-0F8C-4DAE-8AE0-96C71568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CF38-46C4-442E-9CF1-9084FD62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3A6-5292-4C93-A5DB-267EE118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C944-26AE-4D30-8773-55A62CC6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9206-6937-4D17-911C-2FF52CE1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CFEE-A5DD-45D3-A93C-8619B902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E60F-ABDE-4530-8C80-05AD9867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AB63-A599-4C52-825B-6CBF6775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C76-B790-4619-B6D9-5463294D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E46-C502-4B45-8425-309BDF8C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E0F-E793-4C78-A32A-F4DC4D22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6B8-A51B-414E-8195-3A6954EF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48A-B71B-4E46-A0F4-7271840B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FAB-EC2F-4442-96CC-C964DC95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BBD-1508-4A85-8547-D3816139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14F8-F316-49BD-AB63-BDE417FF3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06F8-F9DD-4EF4-B339-069EF6A65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219320" y="304920"/>
            <a:ext cx="7038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RK TWAIN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1240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Baskerville Old Face"/>
              </a:rPr>
              <a:t>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Baskerville Old Face"/>
              </a:rPr>
              <a:t>María José Alobu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295800" cy="4286520"/>
          </a:xfrm>
          <a:prstGeom prst="rect">
            <a:avLst/>
          </a:prstGeom>
          <a:ln w="76320">
            <a:solidFill>
              <a:srgbClr val="66ccff"/>
            </a:solidFill>
            <a:prstDash val="lgDashDot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66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e1ff"/>
                </a:solidFill>
                <a:latin typeface="Comic Sans MS"/>
              </a:rPr>
              <a:t>LIF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al name is: Samuel Langhorne Clem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as born: Florida, Missouri, on November 30,183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e had 6 br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wain was apprentice to a printer in 18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  1852 he wrote his first story :” the Dandy Frightening the Squ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467480" y="4952880"/>
            <a:ext cx="1443240" cy="1706760"/>
          </a:xfrm>
          <a:prstGeom prst="rect">
            <a:avLst/>
          </a:prstGeom>
          <a:ln w="28440">
            <a:solidFill>
              <a:srgbClr val="66ccff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HIS 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Travel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Historic nove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Short s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362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8954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41148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4648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58672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22096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Inocents ab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Following the Equ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40384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he Prince and the Pau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44956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A Connecticut Yankee in King Arthur´s Cou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57150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he Celebrated Jumping Frog of Calaveras Cou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63244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391520" y="4952880"/>
            <a:ext cx="1442880" cy="1706760"/>
          </a:xfrm>
          <a:prstGeom prst="rect">
            <a:avLst/>
          </a:prstGeom>
          <a:ln w="28440">
            <a:solidFill>
              <a:srgbClr val="66ccff"/>
            </a:solidFill>
            <a:prstDash val="dash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Novel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HIS 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514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2514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25146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e1ff"/>
                </a:solidFill>
                <a:latin typeface="Arial"/>
              </a:rPr>
              <a:t>The Adventures of Tom Saw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24382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afe1ff"/>
                </a:solidFill>
                <a:latin typeface="Arial"/>
              </a:rPr>
              <a:t>Huckleberry Fi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1871640" cy="2438280"/>
          </a:xfrm>
          <a:prstGeom prst="rect">
            <a:avLst/>
          </a:prstGeom>
          <a:ln w="76320">
            <a:solidFill>
              <a:srgbClr val="ff3300"/>
            </a:solidFill>
            <a:prstDash val="lgDash"/>
            <a:miter/>
          </a:ln>
        </p:spPr>
      </p:pic>
      <p:pic>
        <p:nvPicPr>
          <p:cNvPr id="238" name="" descr=""/>
          <p:cNvPicPr/>
          <p:nvPr/>
        </p:nvPicPr>
        <p:blipFill>
          <a:blip r:embed="rId2"/>
          <a:srcRect l="0" t="0" r="0" b="6224"/>
          <a:stretch/>
        </p:blipFill>
        <p:spPr>
          <a:xfrm>
            <a:off x="6019920" y="3200400"/>
            <a:ext cx="1888920" cy="2438280"/>
          </a:xfrm>
          <a:prstGeom prst="rect">
            <a:avLst/>
          </a:prstGeom>
          <a:ln w="76320">
            <a:solidFill>
              <a:srgbClr val="ff3300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500"/>
                            </p:stCondLst>
                            <p:childTnLst>
                              <p:par>
                                <p:cTn id="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500"/>
                            </p:stCondLst>
                            <p:childTnLst>
                              <p:par>
                                <p:cTn id="2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umno59</cp:lastModifiedBy>
  <dcterms:modified xsi:type="dcterms:W3CDTF">2008-06-09T08:51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